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57200" y="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896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97408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57200" y="897408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FECE-1319-4D2A-9953-D9C42BCAC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4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59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:  180.756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Immediately  Ans:  2.91e18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1.00 h later (during the thyroid test)  Ans:  2.90e18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6 months later (assume 30 days/month)  Ans:  5.10e11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:  5.18 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4.25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:  5310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2750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05E-5B7C-47C3-9C7A-98F45CD0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9EF-E43E-4735-9CC5-CF388626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795-35CC-4342-AC19-60506CB4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8CE-4FA4-4453-B485-C6A80847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4E5-D037-456A-90CE-5FEC3CDD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10A-2B26-443D-A7D6-8C9E2FE7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BA0-DDAF-4CE0-A977-94C4CAA3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F8D-C543-44A4-9C36-595969F8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0FE-9E78-4DDE-AE36-BEF4812D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F3B-CF99-478F-99E7-B5B10A3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A46-B010-45B3-BF12-5A927D6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29F-CD46-47A1-BAD2-448A6EC8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B20-C169-44A7-A49E-25692D4F5B90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ttle Boy” exploded over Hiroshima on 6 August, 1945 a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815 hours.  A typical nuclear reaction was the fission of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by the reac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+ 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6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4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e +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9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r + 2n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lculate the energy released, in Mev, by the fission of one atom of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in the reactions above.  Needed atomic masses ar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35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35.04392 u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00867 u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X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39.92162 u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S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93.91536 u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9" name="" descr="collectibles"/>
          <p:cNvPicPr/>
          <p:nvPr/>
        </p:nvPicPr>
        <p:blipFill>
          <a:blip r:embed="rId1"/>
          <a:stretch/>
        </p:blipFill>
        <p:spPr>
          <a:xfrm>
            <a:off x="304920" y="228600"/>
            <a:ext cx="1942920" cy="159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The First Atomic Bomb - Hiroshima Japan"/>
          <p:cNvPicPr/>
          <p:nvPr/>
        </p:nvPicPr>
        <p:blipFill>
          <a:blip r:embed="rId2"/>
          <a:stretch/>
        </p:blipFill>
        <p:spPr>
          <a:xfrm>
            <a:off x="6934320" y="4419720"/>
            <a:ext cx="142848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Little Boy - Atomic Bomb use WWII on Japan"/>
          <p:cNvPicPr/>
          <p:nvPr/>
        </p:nvPicPr>
        <p:blipFill>
          <a:blip r:embed="rId3"/>
          <a:stretch/>
        </p:blipFill>
        <p:spPr>
          <a:xfrm>
            <a:off x="6858000" y="380880"/>
            <a:ext cx="19051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871000" y="533520"/>
            <a:ext cx="314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-Bomb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W TP 42-26 - Dec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plutonium isotope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39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 is produced as a by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 in nuclear reactors and hence is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umulating in our environment.  It is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dioactive, decaying with a half life of 2.4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s.  (a) Calculate the number of Pu nuclei that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stitute a chemically lethal dose of 2.00 mg?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b) Calculate the decay rate of this amount?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integration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fission reaction occurs according to this equation. 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35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 + 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14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s + 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93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b + 2n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culate the energy released in the fission reaction. Atomic and particle masses are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35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35.04392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141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s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40.91963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93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b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92.92157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1.00867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ay - Hal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iodine isotope,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3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(Z = 53, 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½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8.0207 days, atomic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ss is 130.906 124 u), is used in hospitals for diagnosi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thyroid function.  If 632 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are ingested by a patient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activity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)  Immediatel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)  1.00 h later (during the thyroid test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)  6 months later (assume 30 days/month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47680"/>
            <a:ext cx="9144000" cy="740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9120" y="152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aw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6960" y="72072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n/Assumption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400" y="12952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sk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040" y="19051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040" y="2819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v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400" y="6095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7207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s give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8720" y="1295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integration energ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0040" y="22860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integration energy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800600" y="2298600"/>
                <a:ext cx="1371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670760" y="190512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fission, nuclear reaction, energy releas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511280" y="2854440"/>
                <a:ext cx="1371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11280" y="3300480"/>
                <a:ext cx="16365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11280" y="3692520"/>
                <a:ext cx="20937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11280" y="4151160"/>
                <a:ext cx="48132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5</m:t>
                            </m:r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11280" y="4643280"/>
                <a:ext cx="548640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162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536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67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362320" y="5010120"/>
                <a:ext cx="5294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392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67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9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 MeV/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41160" y="609588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sion implies energy released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ositive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11280" y="5369040"/>
            <a:ext cx="2337480" cy="490680"/>
            <a:chOff x="1511280" y="5369040"/>
            <a:chExt cx="2337480" cy="49068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511280" y="5369040"/>
                  <a:ext cx="1996920" cy="38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9</m:t>
                      </m:r>
                      <m:r>
                        <m:rPr>
                          <m:lit/>
                          <m:nor/>
                        </m:rPr>
                        <m:t xml:space="preserve"> Me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2057400" y="5673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7400" y="57243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3120" y="558324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S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498680" y="176040"/>
            <a:ext cx="5867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5U + 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36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0Xe + 94Sr + 2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sini Spacecraft - Dec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Cassini project is a NASA led, international space exploration program designed to study Saturn, its rings, and its moons.  The Cassini spacecraft reached Saturn in July of 2004, after a seven-year voyage, and began a four-year orbit of the planet.  To provide the required power for the 11-year mission, three Radioisotope Thermoelectric Generators (RTGs) were attached to the spacecraft.  The RTGs originally contained a total of 37.2 kg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.  The half-life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 is 87.7 years.  Calculate the mass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 remaining after 10.9 year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0" name="" descr="Image generated by script"/>
          <p:cNvPicPr/>
          <p:nvPr/>
        </p:nvPicPr>
        <p:blipFill>
          <a:blip r:embed="rId1"/>
          <a:srcRect l="13476" t="16675" r="16063" b="31455"/>
          <a:stretch/>
        </p:blipFill>
        <p:spPr>
          <a:xfrm>
            <a:off x="7389720" y="152280"/>
            <a:ext cx="1416240" cy="1525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81" name="" descr="Image generated by script"/>
          <p:cNvPicPr/>
          <p:nvPr/>
        </p:nvPicPr>
        <p:blipFill>
          <a:blip r:embed="rId2"/>
          <a:stretch/>
        </p:blipFill>
        <p:spPr>
          <a:xfrm>
            <a:off x="304920" y="152280"/>
            <a:ext cx="17524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Image generated by scrip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57200" y="-133200"/>
            <a:ext cx="10591920" cy="7122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4200" y="228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aw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2040" y="72072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ns/Assumption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480" y="1863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sk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480" y="23972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120" y="3387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v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7280" y="2286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applic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89800" y="720720"/>
            <a:ext cx="2154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37.2 k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87.7 yea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0.9 yea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4880" y="186372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ss remaining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9800" y="239724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words –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alf-life, mass remainin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68720" y="281772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dioactive decay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27400" y="2828880"/>
                <a:ext cx="1422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52360" y="3386160"/>
                <a:ext cx="1905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200040" y="3387600"/>
            <a:ext cx="5577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final number of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 ato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u,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initial number of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 ato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43000" y="3924360"/>
                <a:ext cx="1473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17440" y="4775040"/>
                <a:ext cx="1625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583800" y="4495680"/>
            <a:ext cx="463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atomic mass of Plutoniu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19520" y="4571640"/>
            <a:ext cx="76176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520" y="4800600"/>
            <a:ext cx="76176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43000" y="5710320"/>
                <a:ext cx="2031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rot="5400000">
            <a:off x="970920" y="3904920"/>
            <a:ext cx="1866960" cy="1676520"/>
          </a:xfrm>
          <a:prstGeom prst="leftArrowCallout">
            <a:avLst>
              <a:gd name="adj1" fmla="val 21030"/>
              <a:gd name="adj2" fmla="val 20171"/>
              <a:gd name="adj3" fmla="val 8460"/>
              <a:gd name="adj4" fmla="val 88448"/>
            </a:avLst>
          </a:prstGeom>
          <a:solidFill>
            <a:srgbClr val="ccffff">
              <a:alpha val="3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34480" y="5867280"/>
            <a:ext cx="209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u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nce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724280"/>
            <a:ext cx="609480" cy="1752840"/>
          </a:xfrm>
          <a:custGeom>
            <a:avLst/>
            <a:gdLst>
              <a:gd name="textAreaLeft" fmla="*/ 81360 w 609480"/>
              <a:gd name="textAreaRight" fmla="*/ 528120 w 60948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ff">
              <a:alpha val="3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38680" y="586728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664240" y="2692440"/>
                <a:ext cx="1143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Image generated by scrip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57200" y="-152280"/>
            <a:ext cx="10591920" cy="712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480" y="434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2040" y="3049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ve (cont)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35080" y="762120"/>
                <a:ext cx="1371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28280" y="7621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ed to calculate the disintegration constant,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λ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238400" y="960120"/>
            <a:ext cx="914400" cy="1301760"/>
          </a:xfrm>
          <a:prstGeom prst="leftArrowCallout">
            <a:avLst>
              <a:gd name="adj1" fmla="val 29938"/>
              <a:gd name="adj2" fmla="val 28716"/>
              <a:gd name="adj3" fmla="val 7597"/>
              <a:gd name="adj4" fmla="val 88448"/>
            </a:avLst>
          </a:prstGeom>
          <a:solidFill>
            <a:srgbClr val="ccffff">
              <a:alpha val="3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35080" y="1295280"/>
                <a:ext cx="1143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609480" y="1665360"/>
            <a:ext cx="439920" cy="1154160"/>
          </a:xfrm>
          <a:custGeom>
            <a:avLst/>
            <a:gdLst>
              <a:gd name="textAreaLeft" fmla="*/ 58680 w 439920"/>
              <a:gd name="textAreaRight" fmla="*/ 381240 w 439920"/>
              <a:gd name="textAreaTop" fmla="*/ 201960 h 1154160"/>
              <a:gd name="textAreaBottom" fmla="*/ 83700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ff">
              <a:alpha val="3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31840" y="2082960"/>
                <a:ext cx="1600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12760" y="2717640"/>
                <a:ext cx="3708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kg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ear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years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1114560" y="3581280"/>
            <a:ext cx="1813320" cy="541800"/>
            <a:chOff x="1114560" y="3581280"/>
            <a:chExt cx="1813320" cy="5418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114560" y="3581280"/>
                  <a:ext cx="14983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k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1676520" y="3962520"/>
              <a:ext cx="838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4005360"/>
              <a:ext cx="838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42240" y="38466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imes New Roman"/>
                </a:rPr>
                <a:t>ANS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243080" y="4341960"/>
            <a:ext cx="690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dioactive decay implies a reduction in the amount of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ss, i.e., m &lt; 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48254" t="30306" r="1021" b="15820"/>
          <a:stretch/>
        </p:blipFill>
        <p:spPr>
          <a:xfrm>
            <a:off x="304920" y="1219320"/>
            <a:ext cx="4903560" cy="5410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2952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lculate the dose equivalent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d by a 70.0 kg worker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posed to a 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 source with a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tivity of 1.48 Bq for 4.00 h?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 emits two gamma rays of energy 1.33 MeV and 1.17 MeV nearly simultaneously when it decays.  5.00% of the gamm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ays are absorbed by the worker’s body and have an RBE of 0.850.  Calculate the dose equivalent.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integration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4120" y="1865160"/>
            <a:ext cx="320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lculate the energy released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uring the alpha decay of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.  The process 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               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  +  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 = 4.002 60 u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 = 234.043 63 u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 = 238.050 79 u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47520"/>
            <a:ext cx="8915400" cy="6810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tnell &amp; Johnson, Example 31-11 - Dec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radioactive isotope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is present in living tissue  at an equilibrium concentration of one atom for every 8.3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toms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.  When tissue dies, the ratio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to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ops as the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decays but is not replaced.  The decay rate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for every gram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in a living organism is 0.230 Bq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 1991 a frozen human corpse (the Iceman) was discovered in Italy’s Schnals pass 10,400 feet above sea level.  Material found with the body had a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activity of 0.121 Bq per gram of carbon.  Calculate the age of the Iceman’s remains.  The half life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is 5730 years.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rway TP 31-21 - Dec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09880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pure sample of  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26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 contains 2.0x10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atoms of the isotope.  If the half life of  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26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 is 1.6x10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ears, calculate the decay rate of this sample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f8255</cp:lastModifiedBy>
  <dcterms:modified xsi:type="dcterms:W3CDTF">2005-08-24T15:31:03Z</dcterms:modified>
  <cp:revision>48</cp:revision>
  <dc:subject/>
  <dc:title>PowerPoint Presentation</dc:title>
</cp:coreProperties>
</file>