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D4B2-0E7B-43B6-A41D-EB6D9E8BB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6650-A9EA-454F-9D28-887B03A0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51A8-56EA-49F3-A95F-A84215E5A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3122-90D0-4B37-9E25-4CC1C2784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E8BE-6C46-4826-8C15-DD16118C6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916A-5D92-4EFB-9509-AB3B0ABD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F620-0C33-4599-A68E-867E9189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D579-189E-4AAB-8CED-AF352FA6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7D66-BA02-4708-B81A-7380E9A8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C5C2-2FCB-46F7-A6CB-EEF26DA0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AB60-7957-47F5-BA21-00470192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712F-606C-41B3-9689-D7303CAD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EBA0-62D8-4FA1-BA29-72BE0C77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EDF0-9C9F-45B7-94E3-836479B6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C14C-4F3F-4A43-B19E-E2747D91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E4AC-138B-42C5-8BA7-49DF36F82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771D-5438-4CF4-97DE-12AFFE9DB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EF89-6CFF-4347-B978-770F96A3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7B27-13FE-4EEF-B36F-87EB1EF2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24C7-77BB-42E2-8557-2C21F31E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F208-3481-45BA-90BC-74C74984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D70C-3677-4E9F-9AC1-BF95B0D1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F438-6F9F-482F-A437-651F43A5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9B54-5CC5-4FD7-947A-FA4CEA1E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5850-E95F-41F4-B3B6-BDC7B9AE8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CD1A-65F1-4E4B-8124-F3F041CB8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iological Effects of Ionizing Radia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N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2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Relative Biological Effectivenes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of the biological risks associated with a particular type of ionizing rad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pha Particles  =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a Particles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mma/Photons =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ns/Neutrons = 5 -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52880" y="350532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06840" y="373392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ts of tabulat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the dose equivalent if a cadet eats a banana exposing him 2.0 mSv/h every day of the week for 30 days. 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 emits a beta particle and has a half-life of 1.28e9 years.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7732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e the dose equivalent if a cadet eats a banana exposing him to 2.0 mGy/h every day of the week for 30 days. 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emits a beta particle and has a half-life of 1.28e9 ye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 days  24 hours   2.0e-3 Gy   1 RBE   =     1.4 Sv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day          hou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066680" y="4572000"/>
            <a:ext cx="5486400" cy="914400"/>
            <a:chOff x="1066680" y="4572000"/>
            <a:chExt cx="5486400" cy="914400"/>
          </a:xfrm>
        </p:grpSpPr>
        <p:sp>
          <p:nvSpPr>
            <p:cNvPr id="127" name=""/>
            <p:cNvSpPr/>
            <p:nvPr/>
          </p:nvSpPr>
          <p:spPr>
            <a:xfrm>
              <a:off x="1066680" y="5029200"/>
              <a:ext cx="548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09680" y="45720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57240" y="45720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33760" y="45720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7391520" y="501984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15280" y="5110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easurement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82520" y="2003400"/>
          <a:ext cx="7527960" cy="365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2520" y="2003400"/>
                    <a:ext cx="7527960" cy="36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cute Radiation Syndrom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071720" y="1755720"/>
          <a:ext cx="7813440" cy="458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755720"/>
                    <a:ext cx="781344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verage Lethal Do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D50/30 = 450 r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% of the people exposed to 450 rads will die within 30 days if modest medical treatment is administer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D50/t = ____ Gy :  50% of people exposed to this many Gray will die with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“t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mount of ti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mbat Effectivenes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143000" y="1752480"/>
          <a:ext cx="7467480" cy="445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52480"/>
                    <a:ext cx="746748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2512440" y="449568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mbat Eff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46000" y="4114800"/>
            <a:ext cx="181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Perform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Degra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3720" y="3048120"/>
            <a:ext cx="15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ff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94440" y="31734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79600" y="53722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 h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4495680" y="5257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19480" y="53341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 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019920" y="518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7772400" y="5257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67760" y="5576760"/>
            <a:ext cx="9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 mon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enetrating Powe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pha Part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penetrating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ped by thin material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a Partic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etrates more than Alp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ped by cm’s of metal or plasti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m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ep pene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ped by high A (heavy) material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ep penetr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ped by low A 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3520" t="3960" r="3261" b="0"/>
          <a:stretch/>
        </p:blipFill>
        <p:spPr>
          <a:xfrm>
            <a:off x="4495680" y="1447920"/>
            <a:ext cx="411480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onizing Radia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6675480" cy="2606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362240" y="5029200"/>
            <a:ext cx="66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rectly Ionizing Radiation – uncharged part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5240" y="1600200"/>
            <a:ext cx="61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ly Ionizing Radiation – charged part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98640" y="1905120"/>
            <a:ext cx="52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Protons, Alpha particles, Beta part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77240" y="548640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Neu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ources of Ionizing Radia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429000" y="1905120"/>
            <a:ext cx="5334120" cy="3768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66680" y="1600200"/>
            <a:ext cx="2424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posur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of the ionization caused by photons in 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mount of charge liberated by photons in air per unit mass of 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ts: SI -- C/kg,   US – Roent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actor:  1 R = 2.5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/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bsorbed Do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of the energy deposited in a substance by ionizing rad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discussing absorbed doses, we must specify the type of ionizing radiation and the substance expo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t:  SI – Gray (Gy),  US – r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Gy = 1 J/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Gy = 100 r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7732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the amount of energy a man weighing 50.0 kg receives from a dose equivalent of 100 mSv when exposed to alpha particle radiation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7732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e the amount of energy a man weighing 50.0 kg receives from a dose equivalent of 100. mSv when exposed to alpha particle radi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100 Sv (D*RBE)      1 J/kg      50.0 kg    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.25 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. RBE        1 Gy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464832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78160" y="4191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94360" y="4191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848720" y="46483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ose Equivalen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 of the biological effect of ionizing rad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 calculated val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= D x RB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is the dose equiva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is the absorbed d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BE Relative biological effec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t:  SI – Sievert (Sv), US – 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sion Factor:  100 rem = 1 S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19:25:58Z</dcterms:created>
  <dc:creator>Louis C. Giammatteo</dc:creator>
  <dc:description/>
  <dc:language>en-US</dc:language>
  <cp:lastModifiedBy>CTSB</cp:lastModifiedBy>
  <dcterms:modified xsi:type="dcterms:W3CDTF">2005-08-22T12:38:28Z</dcterms:modified>
  <cp:revision>21</cp:revision>
  <dc:subject/>
  <dc:title>Biological Effects of Ionizing Radiation</dc:title>
</cp:coreProperties>
</file>