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FB1-9B78-4858-AD09-45232460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D02-0083-4710-B0C8-80CC6916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0AA-EB5F-4024-87AA-42A62008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A1C-977D-4F5B-97A2-1F44939B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B430-EBC6-4DBC-BA95-76ABC91C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2633-81FD-4B43-A55F-54749C2C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17E4-6AB5-4033-9938-FE510C40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F095-A34C-483E-B2A6-0A55338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B3C0-FC57-4C52-822E-76C8FD66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C781-DD1D-488B-A92F-65D11AA6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F2D0-38B2-4025-89F5-8F1E159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D60-6469-4C91-B0AE-1519BB1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D049-BDC2-4C35-9970-8359817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BD14-4034-447C-8522-6D264D7C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016B-7C87-4E78-8F36-86F48CFC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3F8E-77DB-485C-A66C-736AA49F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7EF2-7747-4382-A3EC-2441AEA4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252-4943-4526-8E60-E697A329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9C8-89C0-49CB-B485-53086CB9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EBC-65B5-414D-A873-57CC376D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268-0D82-4A4C-8AA9-A7B8FBD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C4C-3F28-44C5-A777-CC4990C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509-30BA-4B64-B3CB-27E69DD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D45-96EA-497D-9E90-9B5E96E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C1F5-310F-449B-8805-226AE8EE2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A06B-3578-47B1-8B5B-9B086073F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ological Effects of Ionizing Radi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2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Relative Biological Effectivenes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of the biological risks associated with a particular type of ionizing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 Particles 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Particles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/Photons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s/Neutrons = 5 -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5053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06840" y="37339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tabul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dose equivalent if a cadet eats a banana exposing him 2.0 mSv/h every day of the week for 30 days.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emits a beta particle and has a half-life of 1.28e9 years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dose equivalent if a cadet eats a banana exposing him to 2.0 mGy/h every day of the week for 30 days.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emits a beta particle and has a half-life of 1.28e9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days  24 hours   2.0e-3 Gy   1 RBE   =     1.4 Sv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day          h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4572000"/>
            <a:ext cx="5486400" cy="914400"/>
            <a:chOff x="1066680" y="4572000"/>
            <a:chExt cx="5486400" cy="914400"/>
          </a:xfrm>
        </p:grpSpPr>
        <p:sp>
          <p:nvSpPr>
            <p:cNvPr id="127" name=""/>
            <p:cNvSpPr/>
            <p:nvPr/>
          </p:nvSpPr>
          <p:spPr>
            <a:xfrm>
              <a:off x="1066680" y="502920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4572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7240" y="4572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3760" y="4572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391520" y="50198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15280" y="5110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asuremen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2520" y="2003400"/>
          <a:ext cx="7527960" cy="36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003400"/>
                    <a:ext cx="752796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ute Radiation Syndrom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1720" y="1755720"/>
          <a:ext cx="7813440" cy="45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55720"/>
                    <a:ext cx="781344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verage Lethal Do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50/30 = 450 r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of the people exposed to 450 rads will die within 30 days if modest medical treatment is administer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50/t = ____ Gy :  50% of people exposed to this many Gray will die with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t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ount of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at Effective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1752480"/>
          <a:ext cx="746748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4674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512440" y="44956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bat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46000" y="411480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eg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3720" y="3048120"/>
            <a:ext cx="15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94440" y="31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9600" y="5372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495680" y="5257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19480" y="5334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0199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77240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67760" y="557676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enetrating Pow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enetrating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ed by thin materi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a Partic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etrates more than Alp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ed by cm’s of metal or plast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pene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ed by high A (heavy) materi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penet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ed by low A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3520" t="3960" r="3261" b="0"/>
          <a:stretch/>
        </p:blipFill>
        <p:spPr>
          <a:xfrm>
            <a:off x="4495680" y="1447920"/>
            <a:ext cx="41148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onizing Radi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675480" cy="2606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62240" y="5029200"/>
            <a:ext cx="66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ly Ionizing Radiation – uncharged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5240" y="1600200"/>
            <a:ext cx="61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 Ionizing Radiation – charged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8640" y="19051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Protons, Alpha particles, Beta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7240" y="5486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urces of Ionizing Radi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5334120" cy="376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2424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posu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of the ionization caused by photons in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charge liberated by photons in air per unit mass of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: SI -- C/kg,   US – Roent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actor:  1 R = 2.5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/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bsorbed Do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of the energy deposited in a substance by ionizing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iscussing absorbed doses, we must specify the type of ionizing radiation and the substance ex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:  SI – Gray (Gy),  US –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Gy = 1 J/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Gy = 100 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amount of energy a man weighing 50.0 kg receives from a dose equivalent of 100 mSv when exposed to alpha particle radiati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amount of energy a man weighing 50.0 kg receives from a dose equivalent of 100. mSv when exposed to alpha particle rad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100 Sv (D*RBE)      1 J/kg      50.0 kg   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25 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 RBE        1 Gy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46483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7816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436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se Equival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the biological effect of ionizing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calculated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D x RB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s the dose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is the absorbed 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BE Relative biological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:  SI – Sievert (Sv), US – 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Factor:  100 rem = 1 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19:25:58Z</dcterms:created>
  <dc:creator>Louis C. Giammatteo</dc:creator>
  <dc:description/>
  <dc:language>en-US</dc:language>
  <cp:lastModifiedBy>CTSB</cp:lastModifiedBy>
  <dcterms:modified xsi:type="dcterms:W3CDTF">2005-08-22T12:38:28Z</dcterms:modified>
  <cp:revision>21</cp:revision>
  <dc:subject/>
  <dc:title>Biological Effects of Ionizing Radiation</dc:title>
</cp:coreProperties>
</file>