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164388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640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10356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57200" y="0"/>
            <a:ext cx="310356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1896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15680" y="4487760"/>
            <a:ext cx="5730840" cy="42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974080"/>
            <a:ext cx="310356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57200" y="8974080"/>
            <a:ext cx="310356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4E11A-201A-4C4D-917C-D2E87B8740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1932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15680" y="4487760"/>
            <a:ext cx="5730840" cy="42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04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nucle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59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1932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5680" y="4487760"/>
            <a:ext cx="5730840" cy="42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S:  180.756 M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21932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15680" y="4487760"/>
            <a:ext cx="5730840" cy="42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 Immediately  Ans:  2.91e18 B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 1.00 h later (during the thyroid test)  Ans:  2.90e18 B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 6 months later (assume 30 days/month)  Ans:  5.10e11 B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21932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15680" y="4487760"/>
            <a:ext cx="5730840" cy="42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:  5.18 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1932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15680" y="4487760"/>
            <a:ext cx="5730840" cy="42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4.25 M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21932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15680" y="4487760"/>
            <a:ext cx="5730840" cy="42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:  5310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21932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15680" y="4487760"/>
            <a:ext cx="5730840" cy="42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 2750 B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6D83-EC9C-49A5-BE58-9A89347E1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78CD-CBF5-498A-B5AC-604BED47A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549D-3C34-46CF-BE6B-6C2210CAA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9C37-DD41-43D3-A858-873EFDE7D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E84A-549C-44B7-96D2-51126F995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8557-87AA-4C34-A6C1-25F63CADB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E725-CB7E-4244-8A99-B577502F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E54F-62B7-4C2F-AEF9-3BC5DAE5F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2152-AAB4-4F5B-987A-F9D409EAA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794A-703E-46D0-9CCA-F1FDA3DA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A781-00C1-405D-964A-F22FBF8D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22B7-C455-4CE8-801D-D68338A3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7B24D-A30D-4583-B228-A6B60A2D133D}" type="slidenum"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46240"/>
                <a:tab algn="l" pos="1486080"/>
                <a:tab algn="l" pos="2454120"/>
                <a:tab algn="dec" pos="3309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ittle Boy” exploded over Hiroshima on 6 August, 1945 at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0815 hours.  A typical nuclear reaction was the fission of 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235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 by the reac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46240"/>
                <a:tab algn="l" pos="1486080"/>
                <a:tab algn="l" pos="2454120"/>
                <a:tab algn="dec" pos="3309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235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 + n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236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140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e + 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9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r + 2n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46240"/>
                <a:tab algn="l" pos="1486080"/>
                <a:tab algn="l" pos="2454120"/>
                <a:tab algn="dec" pos="3309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lculate the energy released, in Mev, by the fission of one atom of 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235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 in the reactions above.  Needed atomic masses are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46240"/>
                <a:tab algn="l" pos="1486080"/>
                <a:tab algn="l" pos="2454120"/>
                <a:tab algn="dec" pos="3309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235U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235.04392 u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46240"/>
                <a:tab algn="l" pos="1486080"/>
                <a:tab algn="l" pos="2454120"/>
                <a:tab algn="dec" pos="3309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.00867 u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46240"/>
                <a:tab algn="l" pos="1486080"/>
                <a:tab algn="l" pos="2454120"/>
                <a:tab algn="dec" pos="3309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X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39.92162 u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46240"/>
                <a:tab algn="l" pos="1486080"/>
                <a:tab algn="l" pos="2454120"/>
                <a:tab algn="dec" pos="3309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Sr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93.91536 u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9" name="" descr="collectibles"/>
          <p:cNvPicPr/>
          <p:nvPr/>
        </p:nvPicPr>
        <p:blipFill>
          <a:blip r:embed="rId1"/>
          <a:stretch/>
        </p:blipFill>
        <p:spPr>
          <a:xfrm>
            <a:off x="304920" y="228600"/>
            <a:ext cx="1942920" cy="1590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" name="" descr="The First Atomic Bomb - Hiroshima Japan"/>
          <p:cNvPicPr/>
          <p:nvPr/>
        </p:nvPicPr>
        <p:blipFill>
          <a:blip r:embed="rId2"/>
          <a:stretch/>
        </p:blipFill>
        <p:spPr>
          <a:xfrm>
            <a:off x="6934320" y="4419720"/>
            <a:ext cx="1428480" cy="2047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" name="" descr="Little Boy - Atomic Bomb use WWII on Japan"/>
          <p:cNvPicPr/>
          <p:nvPr/>
        </p:nvPicPr>
        <p:blipFill>
          <a:blip r:embed="rId3"/>
          <a:stretch/>
        </p:blipFill>
        <p:spPr>
          <a:xfrm>
            <a:off x="6858000" y="380880"/>
            <a:ext cx="1905120" cy="121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2871000" y="533520"/>
            <a:ext cx="314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-Bomb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RW TP 42-26 - Dec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73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e plutonium isotope 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39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u is produced as a by 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873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duct in nuclear reactors and hence is 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873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ccumulating in our environment.  It is 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873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adioactive, decaying with a half life of 2.41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10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4 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873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years.  (a) Calculate the number of Pu nuclei that 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873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onstitute a chemically lethal dose of 2.00 mg?  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873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b) Calculate the decay rate of this amount? 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873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integration Ener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776240"/>
                <a:tab algn="dec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 fission reaction occurs according to this equation. 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776240"/>
                <a:tab algn="dec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235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U + n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141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s + </a:t>
            </a:r>
            <a:r>
              <a:rPr b="0" lang="en-US" sz="32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93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b + 2n.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776240"/>
                <a:tab algn="dec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alculate the energy released in the fission reaction. Atomic and particle masses are: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776240"/>
                <a:tab algn="dec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fr-FR" sz="32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235</a:t>
            </a:r>
            <a:r>
              <a:rPr b="0" lang="fr-FR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U </a:t>
            </a:r>
            <a:r>
              <a:rPr b="0" lang="fr-FR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fr-FR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235.04392u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776240"/>
                <a:tab algn="dec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fr-FR" sz="32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fr-FR" sz="32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141</a:t>
            </a:r>
            <a:r>
              <a:rPr b="0" lang="fr-FR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s</a:t>
            </a:r>
            <a:r>
              <a:rPr b="0" lang="fr-FR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fr-FR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40.91963u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776240"/>
                <a:tab algn="dec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fr-FR" sz="32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fr-FR" sz="32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fr-FR" sz="32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fr-FR" sz="32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93</a:t>
            </a:r>
            <a:r>
              <a:rPr b="0" lang="fr-FR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b</a:t>
            </a:r>
            <a:r>
              <a:rPr b="0" lang="fr-FR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fr-FR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92.92157u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776240"/>
                <a:tab algn="dec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fr-FR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</a:t>
            </a:r>
            <a:r>
              <a:rPr b="0" lang="fr-FR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fr-FR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</a:t>
            </a:r>
            <a:r>
              <a:rPr b="0" lang="fr-FR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fr-FR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fr-FR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1.00867u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776240"/>
                <a:tab algn="dec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776240"/>
                <a:tab algn="dec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ay - Half Lif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iodine isotope, 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13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 (Z = 53, T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½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= 8.0207 days, atomic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ss is 130.906 124 u), is used in hospitals for diagnosi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f thyroid function.  If 632 </a:t>
            </a:r>
            <a:r>
              <a:rPr b="0" lang="el-GR" sz="2400" spc="-1" strike="noStrike">
                <a:solidFill>
                  <a:srgbClr val="3333cc"/>
                </a:solidFill>
                <a:latin typeface="Times New Roman"/>
              </a:rPr>
              <a:t>μ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 are ingested by a patient,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termine the activity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)  Immediatel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)  1.00 h later (during the thyroid test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)  6 months later (assume 30 days/month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247680"/>
            <a:ext cx="9144000" cy="7407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19120" y="15228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raw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6960" y="720720"/>
            <a:ext cx="26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iven/Assumptions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8400" y="12952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ask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8040" y="19051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hysics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8040" y="281952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olve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8400" y="60958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heck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00400" y="720720"/>
            <a:ext cx="18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ses give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68720" y="129528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integration energ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70040" y="2286000"/>
            <a:ext cx="32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integration energy,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4800600" y="2298600"/>
                <a:ext cx="13716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Δ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1670760" y="190512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wor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 fission, nuclear reaction, energy released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1511280" y="2854440"/>
                <a:ext cx="1371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Δ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1511280" y="3300480"/>
                <a:ext cx="163656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m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511280" y="3692520"/>
                <a:ext cx="209376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511280" y="4151160"/>
                <a:ext cx="481320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5</m:t>
                            </m:r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511280" y="4643280"/>
                <a:ext cx="5486400" cy="3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[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3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2162</m:t>
                    </m:r>
                    <m:r>
                      <m:t xml:space="preserve">u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9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1536</m:t>
                    </m:r>
                    <m:r>
                      <m:t xml:space="preserve">u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67</m:t>
                    </m:r>
                    <m:r>
                      <m:t xml:space="preserve">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362320" y="5010120"/>
                <a:ext cx="529416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3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4392</m:t>
                    </m:r>
                    <m:r>
                      <m:t xml:space="preserve">u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67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93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rPr>
                        <m:lit/>
                        <m:nor/>
                      </m:rPr>
                      <m:t xml:space="preserve"> MeV/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1541160" y="6095880"/>
            <a:ext cx="633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ssion implies energy released, i.e.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ositive  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511280" y="5369040"/>
            <a:ext cx="2337480" cy="490680"/>
            <a:chOff x="1511280" y="5369040"/>
            <a:chExt cx="2337480" cy="490680"/>
          </a:xfrm>
        </p:grpSpPr>
        <mc:AlternateContent>
          <mc:Choice xmlns:a14="http://schemas.microsoft.com/office/drawing/2010/main" Requires="a14">
            <p:sp>
              <p:nvSpPr>
                <p:cNvPr id="73" name=""/>
                <p:cNvSpPr txBox="1"/>
                <p:nvPr/>
              </p:nvSpPr>
              <p:spPr>
                <a:xfrm>
                  <a:off x="1511280" y="5369040"/>
                  <a:ext cx="1996920" cy="383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8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69</m:t>
                      </m:r>
                      <m:r>
                        <m:rPr>
                          <m:lit/>
                          <m:nor/>
                        </m:rPr>
                        <m:t xml:space="preserve"> MeV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4" name=""/>
            <p:cNvSpPr/>
            <p:nvPr/>
          </p:nvSpPr>
          <p:spPr>
            <a:xfrm>
              <a:off x="2057400" y="567360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057400" y="572436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63120" y="558324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NS</a:t>
              </a:r>
              <a:endParaRPr b="0" lang="en-US" sz="12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498680" y="176040"/>
            <a:ext cx="5867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5U + 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36U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40Xe + 94Sr + 2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ssini Spacecraft - Dec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1752480"/>
            <a:ext cx="80769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e Cassini project is a NASA led, international space exploration program designed to study Saturn, its rings, and its moons.  The Cassini spacecraft reached Saturn in July of 2004, after a seven-year voyage, and began a four-year orbit of the planet.  To provide the required power for the 11-year mission, three Radioisotope Thermoelectric Generators (RTGs) were attached to the spacecraft.  The RTGs originally contained a total of 37.2 kg of 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38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u.  The half-life of 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38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u is 87.7 years.  Calculate the mass of 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38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u remaining after 10.9 years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80" name="" descr="Image generated by script"/>
          <p:cNvPicPr/>
          <p:nvPr/>
        </p:nvPicPr>
        <p:blipFill>
          <a:blip r:embed="rId1"/>
          <a:srcRect l="13476" t="16675" r="16063" b="31455"/>
          <a:stretch/>
        </p:blipFill>
        <p:spPr>
          <a:xfrm>
            <a:off x="7389720" y="152280"/>
            <a:ext cx="1416240" cy="152568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81" name="" descr="Image generated by script"/>
          <p:cNvPicPr/>
          <p:nvPr/>
        </p:nvPicPr>
        <p:blipFill>
          <a:blip r:embed="rId2"/>
          <a:stretch/>
        </p:blipFill>
        <p:spPr>
          <a:xfrm>
            <a:off x="304920" y="152280"/>
            <a:ext cx="175248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Image generated by script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457200" y="-133200"/>
            <a:ext cx="10591920" cy="71229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14200" y="228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raw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12040" y="720720"/>
            <a:ext cx="28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ivens/Assumptions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13480" y="186372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ask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3480" y="239724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hysics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3120" y="33876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olve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77280" y="22860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 applic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989800" y="720720"/>
            <a:ext cx="21546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= 37.2 kg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/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= 87.7 year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= 10.9 year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4880" y="1863720"/>
            <a:ext cx="29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ss remaining,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= 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69800" y="2397240"/>
            <a:ext cx="480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eywords –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half-life, mass remaining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368720" y="2817720"/>
            <a:ext cx="29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→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adioactive decay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4127400" y="2828880"/>
                <a:ext cx="14223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152360" y="3386160"/>
                <a:ext cx="19051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u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u</m:t>
                        </m:r>
                        <m:r>
                          <m:t xml:space="preserve">,</m:t>
                        </m:r>
                        <m:r>
                          <m:t xml:space="preserve">o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3200040" y="3387600"/>
            <a:ext cx="55774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Pu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is the final number of 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238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 atom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d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Pu,o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is the initial number of 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238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 atom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143000" y="3924360"/>
                <a:ext cx="14731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u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117440" y="4775040"/>
                <a:ext cx="16257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u</m:t>
                        </m:r>
                        <m:r>
                          <m:t xml:space="preserve">,</m:t>
                        </m:r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u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3583800" y="4495680"/>
            <a:ext cx="4636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Pu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is the atomic mass of Plutonium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2819520" y="4571640"/>
            <a:ext cx="761760" cy="1522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819520" y="4800600"/>
            <a:ext cx="761760" cy="5335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43000" y="5710320"/>
                <a:ext cx="20318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m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u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u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 rot="5400000">
            <a:off x="970920" y="3904920"/>
            <a:ext cx="1866960" cy="1676520"/>
          </a:xfrm>
          <a:prstGeom prst="leftArrowCallout">
            <a:avLst>
              <a:gd name="adj1" fmla="val 21030"/>
              <a:gd name="adj2" fmla="val 20171"/>
              <a:gd name="adj3" fmla="val 8460"/>
              <a:gd name="adj4" fmla="val 88448"/>
            </a:avLst>
          </a:prstGeom>
          <a:solidFill>
            <a:srgbClr val="ccffff">
              <a:alpha val="3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34480" y="5867280"/>
            <a:ext cx="2090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Pu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’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ncel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→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4724280"/>
            <a:ext cx="609480" cy="1752840"/>
          </a:xfrm>
          <a:custGeom>
            <a:avLst/>
            <a:gdLst>
              <a:gd name="textAreaLeft" fmla="*/ 81360 w 609480"/>
              <a:gd name="textAreaRight" fmla="*/ 528120 w 609480"/>
              <a:gd name="textAreaTop" fmla="*/ 306720 h 1752840"/>
              <a:gd name="textAreaBottom" fmla="*/ 127080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ffff">
              <a:alpha val="3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638680" y="5867280"/>
                <a:ext cx="13716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5664240" y="2692440"/>
                <a:ext cx="114300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Image generated by script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457200" y="-152280"/>
            <a:ext cx="10591920" cy="71229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13480" y="434340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heck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2040" y="30492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olve (cont)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135080" y="762120"/>
                <a:ext cx="137160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2528280" y="762120"/>
            <a:ext cx="58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eed to calculate the disintegration constant, </a:t>
            </a:r>
            <a:r>
              <a:rPr b="0" i="1" lang="el-G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λ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5400000">
            <a:off x="1238400" y="960120"/>
            <a:ext cx="914400" cy="1301760"/>
          </a:xfrm>
          <a:prstGeom prst="leftArrowCallout">
            <a:avLst>
              <a:gd name="adj1" fmla="val 29938"/>
              <a:gd name="adj2" fmla="val 28716"/>
              <a:gd name="adj3" fmla="val 7597"/>
              <a:gd name="adj4" fmla="val 88448"/>
            </a:avLst>
          </a:prstGeom>
          <a:solidFill>
            <a:srgbClr val="ccffff">
              <a:alpha val="3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135080" y="1295280"/>
                <a:ext cx="114300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609480" y="1665360"/>
            <a:ext cx="439920" cy="1154160"/>
          </a:xfrm>
          <a:custGeom>
            <a:avLst/>
            <a:gdLst>
              <a:gd name="textAreaLeft" fmla="*/ 58680 w 439920"/>
              <a:gd name="textAreaRight" fmla="*/ 381240 w 439920"/>
              <a:gd name="textAreaTop" fmla="*/ 201960 h 1154160"/>
              <a:gd name="textAreaBottom" fmla="*/ 837000 h 1154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ffff">
              <a:alpha val="3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131840" y="2082960"/>
                <a:ext cx="160020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b>
                            </m:sSub>
                          </m:den>
                        </m:f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112760" y="2717640"/>
                <a:ext cx="370836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 kg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years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years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17" name=""/>
          <p:cNvGrpSpPr/>
          <p:nvPr/>
        </p:nvGrpSpPr>
        <p:grpSpPr>
          <a:xfrm>
            <a:off x="1114560" y="3581280"/>
            <a:ext cx="1813320" cy="541800"/>
            <a:chOff x="1114560" y="3581280"/>
            <a:chExt cx="1813320" cy="541800"/>
          </a:xfrm>
        </p:grpSpPr>
        <mc:AlternateContent>
          <mc:Choice xmlns:a14="http://schemas.microsoft.com/office/drawing/2010/main" Requires="a14">
            <p:sp>
              <p:nvSpPr>
                <p:cNvPr id="118" name=""/>
                <p:cNvSpPr txBox="1"/>
                <p:nvPr/>
              </p:nvSpPr>
              <p:spPr>
                <a:xfrm>
                  <a:off x="1114560" y="3581280"/>
                  <a:ext cx="1498320" cy="40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 kg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9" name=""/>
            <p:cNvSpPr/>
            <p:nvPr/>
          </p:nvSpPr>
          <p:spPr>
            <a:xfrm>
              <a:off x="1676520" y="3962520"/>
              <a:ext cx="83808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76520" y="4005360"/>
              <a:ext cx="83808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442240" y="38466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Times New Roman"/>
                </a:rPr>
                <a:t>ANS</a:t>
              </a:r>
              <a:endParaRPr b="0" lang="en-US" sz="12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1243080" y="4341960"/>
            <a:ext cx="69076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adioactive decay implies a reduction in the amount of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ss, i.e., m &lt; m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48254" t="30306" r="1021" b="15820"/>
          <a:stretch/>
        </p:blipFill>
        <p:spPr>
          <a:xfrm>
            <a:off x="304920" y="1219320"/>
            <a:ext cx="4903560" cy="54100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o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257800" y="1295280"/>
            <a:ext cx="3886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alculate the dose equivalent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eceived by a 70.0 kg worker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xposed to a </a:t>
            </a:r>
            <a:r>
              <a:rPr b="0" lang="en-US" sz="1800" spc="-1" strike="noStrike" baseline="30000">
                <a:solidFill>
                  <a:srgbClr val="3333cc"/>
                </a:solidFill>
                <a:latin typeface="Arial"/>
              </a:rPr>
              <a:t>60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o source with an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ctivity of 1.48 Bq for 4.00 h? 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3333cc"/>
                </a:solidFill>
                <a:latin typeface="Arial"/>
              </a:rPr>
              <a:t>60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o emits two gamma rays of energy 1.33 MeV and 1.17 MeV nearly simultaneously when it decays.  5.00% of the gamma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ays are absorbed by the worker’s body and have an RBE of 0.850.  Calculate the dose equivalent.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integration Ener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267080" y="1371600"/>
            <a:ext cx="4648320" cy="46483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94120" y="1865160"/>
            <a:ext cx="3209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alculate the energy released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uring the alpha decay of 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3333cc"/>
                </a:solidFill>
                <a:latin typeface="Arial"/>
              </a:rPr>
              <a:t>238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U.  The process is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3333cc"/>
                </a:solidFill>
                <a:latin typeface="Arial"/>
              </a:rPr>
              <a:t>238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U               </a:t>
            </a:r>
            <a:r>
              <a:rPr b="0" lang="en-US" sz="1800" spc="-1" strike="noStrike" baseline="30000">
                <a:solidFill>
                  <a:srgbClr val="3333cc"/>
                </a:solidFill>
                <a:latin typeface="Arial"/>
              </a:rPr>
              <a:t>234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h  +  </a:t>
            </a:r>
            <a:r>
              <a:rPr b="0" lang="en-US" sz="1800" spc="-1" strike="noStrike" baseline="30000">
                <a:solidFill>
                  <a:srgbClr val="3333cc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He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3333cc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He = 4.002 60 u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3333cc"/>
                </a:solidFill>
                <a:latin typeface="Arial"/>
              </a:rPr>
              <a:t>234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h = 234.043 63 u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3333cc"/>
                </a:solidFill>
                <a:latin typeface="Arial"/>
              </a:rPr>
              <a:t>238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U = 238.050 79 u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66680" y="2895480"/>
            <a:ext cx="4572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6320" y="47520"/>
            <a:ext cx="8915400" cy="68104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utnell &amp; Johnson, Example 31-11 - Dec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e radioactive isotope 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14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 is present in living tissue  at an equilibrium concentration of one atom for every 8.3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10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11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toms of 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.  When tissue dies, the ratio of 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14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 to 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rops as the 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14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 decays but is not replaced.  The decay rate of 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14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 for every gram of 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 in a living organism is 0.230 Bq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 1991 a frozen human corpse (the Iceman) was discovered in Italy’s Schnals pass 10,400 feet above sea level.  Material found with the body had a 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14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 activity of 0.121 Bq per gram of carbon.  Calculate the age of the Iceman’s remains.  The half life of 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14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 is 5730 years.  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erway TP 31-21 - Deca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2098800"/>
            <a:ext cx="82296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 pure sample of  </a:t>
            </a:r>
            <a:r>
              <a:rPr b="0" lang="en-US" sz="4000" spc="-1" strike="noStrike" baseline="30000">
                <a:solidFill>
                  <a:srgbClr val="3333cc"/>
                </a:solidFill>
                <a:latin typeface="Times New Roman"/>
              </a:rPr>
              <a:t>226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a contains 2.0x10</a:t>
            </a:r>
            <a:r>
              <a:rPr b="0" lang="en-US" sz="4000" spc="-1" strike="noStrike" baseline="30000">
                <a:solidFill>
                  <a:srgbClr val="3333cc"/>
                </a:solidFill>
                <a:latin typeface="Times New Roman"/>
              </a:rPr>
              <a:t>14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atoms of the isotope.  If the half life of  </a:t>
            </a:r>
            <a:r>
              <a:rPr b="0" lang="en-US" sz="4000" spc="-1" strike="noStrike" baseline="30000">
                <a:solidFill>
                  <a:srgbClr val="3333cc"/>
                </a:solidFill>
                <a:latin typeface="Times New Roman"/>
              </a:rPr>
              <a:t>226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a is 1.6x10</a:t>
            </a:r>
            <a:r>
              <a:rPr b="0" lang="en-US" sz="4000" spc="-1" strike="noStrike" baseline="30000">
                <a:solidFill>
                  <a:srgbClr val="3333cc"/>
                </a:solidFill>
                <a:latin typeface="Times New Roman"/>
              </a:rPr>
              <a:t>3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years, calculate the decay rate of this sample?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f8255</cp:lastModifiedBy>
  <dcterms:modified xsi:type="dcterms:W3CDTF">2005-08-24T15:31:03Z</dcterms:modified>
  <cp:revision>48</cp:revision>
  <dc:subject/>
  <dc:title>PowerPoint Presentation</dc:title>
</cp:coreProperties>
</file>